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9.png" ContentType="image/png"/>
  <Override PartName="/ppt/media/image11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33C-566E-4627-A59D-1143B481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879-CBE6-4CEA-B653-D005C9D5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42D-D611-481B-BBF2-6D0C0AC7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B31-7197-4390-B563-576F6E92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242-A4B6-4E8D-B951-FA445671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40AE-7024-40C6-9D27-FA9CE966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D27D-D3A9-4036-9CAB-2A45A7E1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354F-B2C5-48C1-8F1A-89961045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AFD1-A266-4A44-BB81-B005058C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5B42-6641-453A-B2AC-AECBE00F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3467-FF5F-4FA4-94DB-DC505CCA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AD8-8105-4C68-8F05-0BEEA8A8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9B68-C3BF-4472-A630-6AEED25B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F8EC-D8F5-4769-B944-E9CDF6F1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881F-AD8A-419C-90B5-E9884392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E389-5808-40CB-88F2-7966E2D0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4209-DA9A-4078-AA6E-110A5FE3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01CF-17CA-41F5-A180-4D7D7AC2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334D-5466-4FC0-B663-C873A0A3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8F97-CB69-4047-ACC9-F8809F89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B93A-BCF9-4C08-9264-9FE66059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6729-51D3-4351-8503-CBE266B4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DB3-577B-434C-A1D5-EDD8718F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3950-50EC-44C3-8D58-DE57F7DD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4F71-5868-473B-85CD-F7B6256B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8DC3-8A77-4F46-A7FB-C14FC25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FA3C-1393-47A2-BEA2-BF58122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8B8C-4883-479D-8A7F-18825FD6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7CA6-EDCC-4E3B-BEA9-7F2B82A0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1A69-2738-4E0E-83B3-C541533B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370B-9291-4ABF-869C-9358C046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D709-3933-480D-BC9B-4FF573B0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7F01-CEF0-43E3-9F54-D3F96D84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1C0-FA70-4C4A-8C7C-AB4E0C79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EA31-2363-4218-9B22-20AF2DE1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FCEC-5F26-4C7E-95E9-DD487405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A166C-BD30-40C1-AF06-9041EA89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ADEC-2CE9-4F46-8C97-40A47EE0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9BAD-BA62-4F4C-AC7E-D2FD829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5C3D8-96D9-4853-B2C9-ABBCCB47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3BA2-AAF2-425F-85DB-66C7E55F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317F-3596-440B-A08D-A932D1BA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490D-A9B3-4D76-A4B1-A66386A5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FD06-06AC-4D92-AC71-77FDC95E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A0F-FD06-4903-B4EA-D856CA1E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9B26B-C193-4675-9702-3C5EF454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0E414-8B1C-461A-BF9F-6ACAA57D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6478-934B-4BCC-AECE-8B5C926A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AEC87-FF84-4107-9AB9-CCAF756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EE464-F3B9-4C29-93EB-3E7557AA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C8E7-73DC-4EC1-B94B-9F0B8EDF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0098C-0552-47FD-AE7F-8B2DD5C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20C1-EFFD-4FCD-A837-A9F7185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E3353-E497-45F3-A1BF-360BF682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CFBFB-E47D-4F8F-AB1A-5B3C38AA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D11-1827-41A5-9167-C8EA753F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D7A15-A0A5-4DB5-BF2D-DDA19FB0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784-B8CB-4F5D-ACDA-ADC7F3D5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E52-05FE-4B6E-9404-2E1EEDA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376-EFC5-4671-8343-B765302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752A-8921-4679-B24F-799840EE6ED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4E47-75BE-4E37-98F9-BE0F619E53F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9496-9187-418B-B444-0A99D194E03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6A20-FB7D-4F6F-A35F-5A8A4AE08C3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856B-45D1-4891-BF28-197EC7B9F76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http://www.heonis.info/pepsi/pepsi-can2(1949).jpg"/>
          <p:cNvPicPr/>
          <p:nvPr/>
        </p:nvPicPr>
        <p:blipFill>
          <a:blip r:embed="rId2"/>
          <a:stretch/>
        </p:blipFill>
        <p:spPr>
          <a:xfrm>
            <a:off x="838080" y="3352680"/>
            <a:ext cx="1587600" cy="31244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695520" y="6642000"/>
            <a:ext cx="170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e first Pepsi-Cola can (1949) be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coca cola can"/>
          <p:cNvPicPr/>
          <p:nvPr/>
        </p:nvPicPr>
        <p:blipFill>
          <a:blip r:embed="rId3"/>
          <a:stretch/>
        </p:blipFill>
        <p:spPr>
          <a:xfrm>
            <a:off x="7467480" y="4114800"/>
            <a:ext cx="14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many different types of cans are in stores toda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you name some drinks that have a different style of can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kind of measurements do you think of when we talk about can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rface area and volu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are going to need to know the following formula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= 2∏rh + 2∏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 = ∏r 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related when we think about the material a can is made out of and what it hold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rface area and volu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search a company comes up with its can desig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ing a can in and measure the Surface area and Volu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e what happens when you change the dimensions of the can just a little b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esent you finding to the clas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group can choose the can that you want to work with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height, diameter, surface area, and volume of your ca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ts compare your findings with your can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they the same or differen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 one inch to the diameter and see what happen to the surface area and volume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ve a presentation ready to deliver in front of the class on your finding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1.bp.blogspot.com/_1x1mvb2W23Q/SXjTI4RbGRI/AAAAAAAAAd0/src6Q5HNTVQ/s400/greene.jpg"/>
          <p:cNvPicPr/>
          <p:nvPr/>
        </p:nvPicPr>
        <p:blipFill>
          <a:blip r:embed="rId2"/>
          <a:stretch/>
        </p:blipFill>
        <p:spPr>
          <a:xfrm>
            <a:off x="3149640" y="3505320"/>
            <a:ext cx="5003640" cy="3352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bw/photos/stylus/68621-CokeZero-MeanJoe.jpg"/>
          <p:cNvPicPr/>
          <p:nvPr/>
        </p:nvPicPr>
        <p:blipFill>
          <a:blip r:embed="rId3"/>
          <a:stretch/>
        </p:blipFill>
        <p:spPr>
          <a:xfrm>
            <a:off x="152280" y="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23:09:27Z</dcterms:created>
  <dc:creator>ECPS-USER</dc:creator>
  <dc:description/>
  <dc:language>en-US</dc:language>
  <cp:lastModifiedBy>ECPS-USER</cp:lastModifiedBy>
  <dcterms:modified xsi:type="dcterms:W3CDTF">2010-03-17T21:51:46Z</dcterms:modified>
  <cp:revision>11</cp:revision>
  <dc:subject/>
  <dc:title>Slide 1</dc:title>
</cp:coreProperties>
</file>